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2161-FED8-4311-A3C1-4BFFB1C60369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48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6AE63096-CD92-4E4D-A4B2-CA6EF77D7DF2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83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88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95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102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2-25T10:14:48Z</dcterms:modified>
  <cp:revision>105</cp:revision>
  <dc:subject/>
  <dc:title>PowerPoint-Präsentation</dc:title>
</cp:coreProperties>
</file>